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35F2-D5A1-4A40-BEDB-0257D30A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6BD-AD91-4D70-8788-9F3C4D0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9E1C-6522-46D6-AB98-F26A249B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965-A1D0-4404-973C-AE052964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8CF-2950-4491-907C-CC202715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4AA-1414-47CB-9A60-60434D41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D42-2157-4E1A-B8FA-AA6DAE60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BD40-87E2-4405-9C3F-EA1D6D62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E19-3467-45FE-9598-EBF92F2D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FD2C-8B48-4A92-9DA2-3CC3AAF0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396-8A0F-42C8-BF47-8C954BD1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0B78-2CD2-4D96-A618-36434F6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E5C-A084-43A2-8AC8-D073CEA79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nuncibaysl.net/noticias/fotos/010723482937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wayne y Sydne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lasses de espa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z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ri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371600"/>
            <a:ext cx="51051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nu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u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31:33Z</dcterms:created>
  <dc:creator>WSFCS Workstation</dc:creator>
  <dc:description/>
  <dc:language>en-US</dc:language>
  <cp:lastModifiedBy>WSFCS Workstation</cp:lastModifiedBy>
  <dcterms:modified xsi:type="dcterms:W3CDTF">2010-04-30T19:00:28Z</dcterms:modified>
  <cp:revision>3</cp:revision>
  <dc:subject/>
  <dc:title>      Dwayne y Sydney </dc:title>
</cp:coreProperties>
</file>